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55B7-5C25-4E56-9699-6682B2293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2F5-5713-4029-8E9B-7ED88C6F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8B8-3460-462C-90C1-58AE16DE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43A-2D46-4D26-9156-058542DD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142-5E3B-447B-AF91-FB88BE7C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0CC-3125-42FC-BACE-CB1859A8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D54-2BD3-45B7-A1CC-A0B82138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170-2C51-4783-981D-24A2D877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F4B-88D8-4B26-B7D6-C2C6CA9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6D5-6354-4298-89C5-205E8CE3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45F-9474-4611-B3ED-3BAE643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DB1-5FEF-4355-BA7C-0A9B763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8C3-7BF4-46B5-A6D9-0553822D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E022-1D43-48B5-9B3D-598FE0B4A1AD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4960" y="1660680"/>
            <a:ext cx="627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40280" y="41911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4200" y="58672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5" descr="&#9;gold1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15560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70160" y="334800"/>
            <a:ext cx="82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" name="Picture 5" descr="&#10;GOLD13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888720" y="586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&#10;GOLD14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996840"/>
            <a:ext cx="7621560" cy="486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660480" y="5867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057400" y="6110280"/>
            <a:ext cx="510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Dupont Street)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AN-FRANCISCO, CAL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4" descr="&#10;GOLD10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861840"/>
            <a:ext cx="7392960" cy="5234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971080" y="22860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0400" y="624852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Picture 5" descr="&#9;gold8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774720"/>
            <a:ext cx="7621560" cy="4863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930840" y="5638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&#9;GOLD9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3808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69600" y="6248520"/>
            <a:ext cx="50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57920" y="5562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53160" y="231948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98760" y="419112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57452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" name="Picture 4" descr="&#9;gold7.gif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09480" y="5867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4" descr="&#9;GOLD6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270080"/>
            <a:ext cx="7621560" cy="431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140640" y="357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836280" y="4572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4" descr="&#9;GOLD3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86080"/>
            <a:ext cx="7621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77880" y="56926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09480" y="600408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4" descr="&#10;GOLD16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15920"/>
            <a:ext cx="7621560" cy="482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327840" y="3049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83280" y="609588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4" descr="&#10;gold11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28240" y="3049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9600" y="609588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4" descr="&#10;gold12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35000"/>
            <a:ext cx="7621560" cy="47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51760" y="30492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8004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4" descr="&#9;gold2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24040"/>
            <a:ext cx="7621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3560" y="1522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78960" y="571500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4" descr="&#10;GOLD15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67000"/>
            <a:ext cx="762156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49160" y="4572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1:37:03Z</dcterms:created>
  <dc:creator>Museum of the City of San Francisco</dc:creator>
  <dc:description/>
  <dc:language>en-US</dc:language>
  <cp:lastModifiedBy>Legion</cp:lastModifiedBy>
  <dcterms:modified xsi:type="dcterms:W3CDTF">2017-07-05T08:02:03Z</dcterms:modified>
  <cp:revision>21</cp:revision>
  <dc:subject/>
  <dc:title>No Slide Title</dc:title>
</cp:coreProperties>
</file>